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D946-1356-4FBE-9EE5-941E0D37A9E4}"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5773-330B-430C-A5BB-03FF3BEAE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8BC8-7835-42F7-A101-B976A67498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B84D-4DF6-4592-A5AC-C39D7A17F6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E031-ED00-4613-B674-A146CBAD85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19ADE1A-B450-4AD4-831D-29AA17DC0D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6F0B-096A-4F05-B1DF-B8797B803D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813E-CC27-40B3-BA36-79A8B693B0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C723-AD06-4862-8127-6DCF1BA1AA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091C-E60A-4FD4-8B51-54B161C03B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CF38D-5DE6-4E5F-9B17-7250847F2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B2D55-ECA1-45DF-BD39-53CA85B47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721A4-47C1-444D-8727-6AF9527CC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B37BA-546B-4AEB-8155-9977C5B29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48A71-0E8B-442A-AC75-8B7518AA5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4A57C-235F-4A88-95D3-B963B7F6C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27A5D-4322-4A14-AB49-C9B398B14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31C1D-9793-44F1-98EC-BEDD4431B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4AE93-CA67-4933-8F0A-94EA1C2EC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1FBAB-3EF3-4ACE-9954-F9CDF3B83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405C3-1439-4CAB-A8A5-D4DAB6117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6B684-D4D0-4669-A4F0-D50EEA952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6272A-4092-481E-A468-177501072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93F41-C04E-4847-B5CB-E8F6C121C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7EDA7-B0D1-4AD7-940A-4B642A1CC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8C9A8-FF2D-4AC2-89DB-8C91248E4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BF776-5915-40C0-929F-75D6BDB09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817FC-F5C9-414A-971A-CE25851A7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3A7F7-5869-4368-8BF4-8D56B39E8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CD590-D20D-42D1-927D-FE6434907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F5DED-DCF7-4E88-8FEA-C5E04430F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87C1D-3D6E-4C21-AF90-D59CC063C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D344-102A-4527-880A-1876DAB57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4F60C-D436-4499-961C-4364495E4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2386-4529-43EF-89F6-B4F24EF97D9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96EC-1634-4CED-8C59-22914C785C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D286-8233-4139-B9E3-0D20238F8B6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20B0-44D7-4415-9E6B-8D21530CE5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FDB9-AE27-4527-9A7B-AF9770E24D7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D5DD-BDFB-46B8-88D9-711B7F49439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515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Maize-based Systems in Eastern and Southern Afric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AI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February 6,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C06D-DCBD-4543-BEC2-D155EA862E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Farming Systems in Mid-elevation areas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stern and Southern Afr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Dar Es Salaam, February 6-9,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9039-312D-4C6A-91C5-0BEE7C36D8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grat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RM, socio-economic aspect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Targeted geographies/value chain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2-06T07:34:37Z</dcterms:modified>
  <cp:revision>245</cp:revision>
  <dc:subject/>
  <dc:title>PowerPoint Presentation</dc:title>
</cp:coreProperties>
</file>